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79A-6B94-4A4F-B621-651A8734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BC2-63B8-4FD5-A188-1665665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D238B-B07E-4219-90A2-97CB3E3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4BD46-3DFF-4E39-8995-13898D0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EE7CE-4607-41F3-8574-79AD0EDC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47E41-9018-411C-B632-3244C49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92F08-C519-4C9C-9F91-046377B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5B737-2472-449D-A19B-8888739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D153-16D9-4ABE-9D63-80368789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B51F1-0769-40C7-B5AF-91D1B6FA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F2B4-7306-4BA7-8F48-4ED9062B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B881E-2ADE-4153-9815-111E8AE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DA6-B598-4464-BAF1-0A3EAC8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C05F-CA0D-4275-8E87-24B2E29D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FDED8-4F38-47B7-B354-5305228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9083-3A20-4B38-9D5E-B8E1F64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42EE1-2152-415A-A42E-FD9EDE77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21D99-1FBF-4CFD-8910-8636F0F0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02A16-6A0D-400E-A140-441E20A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C2216-0FAE-40E1-967C-1469D37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702C-C45E-4AF7-81AF-3DAAE48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6C096-AC59-4300-9284-FFC8A94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1A01B-57B4-4E14-91FC-0EDCB9B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65C-C22D-44C2-8145-72C5F17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4CE68-143A-46B2-9E07-DBF9CBC0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3F9E5-4F4C-4022-A44F-7C3F6C48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9E96-027E-4D65-9436-EB7D16EC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1550D-E25E-45D9-A037-E17C709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8638-D7BA-4EB9-B9CF-31B54DBC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2C8B-75F0-4BA4-A342-6264BD71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7CD6-820D-4D6A-AD22-3196701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CA9AB-56B5-45E1-BD8E-8DDCFD1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BC52C-37B5-412D-BA43-F9137E3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B6DEE-DC3E-4E24-8286-50577D2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C7C-A496-40DA-849C-A1E5E09C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E5285-6FE3-4CB8-9DA6-7C66F3C3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90D5D-9CB3-4093-ABD9-2DDA17D5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F2AC8-4A78-40EE-82AE-645DD20C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5E9ED-37A4-4BDA-9B7B-2DEB3B74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2DDE9-5E3D-4C2D-A0EF-4EC8069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04C85-A15B-4420-AA4D-5719B74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CAA7B-8E00-45AD-B3B3-F40ECA2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40448-55F1-4CB1-8464-C884DBC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8F5D0-8141-4583-98FA-3322BC8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192FB-CA6C-42E8-82AC-519986C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C99-F3CF-4960-9395-752644B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AF961-363E-4EBF-9889-395D587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3D38-BC4B-46DB-84CD-967F699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0308-B751-47B3-85B5-DB4CFCF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D8918-3CFE-40B9-8109-A08B4B33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B231D-2F40-43A5-85FA-D005141A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5C0DC-7F89-4149-8D0C-3F87478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15EBC-B5DA-4060-97F9-7C3CA6F5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CD4CA-7B6D-483F-85D9-73017AC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CB119-B328-4F15-9B32-40E95D1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C680C-BC7A-4A34-B88E-36CE3C26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66A1-4DE4-4A08-AE0C-CF87704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8E14E-1E3C-41CF-B147-CCACF47C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C63A7-04D0-45F1-AC60-3CE1085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D4D65-8CF8-441F-87DC-E551A002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D85E7-A891-4EB5-81B3-BFD6FCE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30BB0-E002-4D6A-B6D1-D5CB332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9CEAD-6B67-4905-9E63-3B0FCB63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07D42-2030-43C5-9973-FA0445B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89A52D-8582-419B-8D58-2E5E9EE3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9F0CA-31BF-498D-848F-1B84DB46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CAD47-9AB6-410D-AED9-9A84D4D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1571-872C-4928-A5E0-03AE223D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0223F-53B4-4800-AA4C-B5FE1FA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07CB5-D389-4A06-A6D7-42842C9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B03F1-EAE6-45D4-B7BE-C6595EF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639DF-5199-4DFE-8B5D-93A74E00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7F59B-A524-48EA-9598-770A22F5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D61C2-DDB5-4E02-81CA-8DFB56B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A9A5C-2AAA-4077-BFDF-FA8F642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4DB4A-D93E-4646-A701-42044707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5D465-FB14-4B59-BC53-C106317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28D04-9158-4462-B3EC-94263140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704-30DE-466C-92C6-8023BF57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90438-3317-42F4-80FF-3B728563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65064-7AF7-4DFB-A5B0-DA9EF2F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EBC9F-CB39-4724-8089-CAA3CCCB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87AF7-9CAE-4BC1-9256-2A0ACF79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C8EA4-D7F5-4F11-A8B3-FDC6C72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1A4AB-D2CD-4B0D-91C8-4894961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A8994-C820-4FB7-8390-F174E061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EF5F3-04A1-4A7C-B1CC-9038ED1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A9CA9-6C53-4239-8CBA-E8EDB98F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AAC82-D8F0-47A1-9A30-A3DAEE09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CA32-16AC-4641-852E-9CC5BA1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53227-6174-4461-AA6F-C8ED6177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F637C-4BA1-4703-88D4-2CE1CB7D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81537-1D36-4919-9077-D5D3986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5E02F-213A-487B-B644-EBAF749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6324B-F989-4337-961D-B69A7F0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C8BB9-274F-4A8D-B6EF-BDE6E3BF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DA9EE-0B8A-4D88-9056-3AFA0ECF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80861-224A-4661-A288-7ECEDB37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704F0-C9D4-4930-BB5F-AFE2ED7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81DDB-59E6-40B8-8003-F628D01F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BAA-399F-4D51-BD7C-6E5E3C9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B0675-2750-40CE-8EEF-B91E05A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30642-CA67-4874-A858-96DB5EDF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3B29A-94E9-4020-8B56-B47D8548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C5B8E-C04B-437C-842A-12965853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FE2A0-4C45-4958-8FCB-3ECB069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0F035-580A-48EE-9EE2-0EA0CD1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A92AF-A7B0-4EC3-9801-CA777C3A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B9217-B242-444A-A9FA-65AEB4D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52E22-41BA-4433-81CE-63533FA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725CB-71EC-4C9C-9DFF-507856D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FD2-2318-4CB0-BE03-F675CDA0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2098-8A02-46D6-AA03-9E0EAE1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18D78-7E36-4A2C-98B7-C1C58FB1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26756-EDE8-4F9B-8A46-01C8F7E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2DB72-B478-4256-B4E4-C28F500E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ECE92-94EB-4C1C-9B69-A9425118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6A59B-DF3A-43EC-A16C-FE19E4F5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C2665-2550-4705-8320-BD67739B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9A2D7-BD44-4B6A-B380-D70AF7C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ECDEB-B62D-459F-B98E-9BC633E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51B64-5D2D-41C7-8311-E0C001F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84DC5-3211-4FD7-8EFA-9DF7783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B057-338D-4B6A-90E0-8F1AD2D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3E7BD-591B-456E-963A-D0A2CBD4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D828E-5962-43E4-A00D-C09A35A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0165C-2DCC-4AA5-ACFF-786AFAE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4973D-87D3-4154-B151-94CFB8D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E39AF-F278-456F-9922-5045E170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9557F-7918-46B6-A036-238DA1F7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2D079-88C4-47C5-8273-388B61DF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AB954-00D4-4994-A3AF-A0674DC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FF3FD-E7A5-4CD8-9080-059C9633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6490B-EAAA-4C27-88AF-B8F27ED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0D63-25A1-4620-87F6-DA7A214A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CD3CB-7216-4F35-A489-413D8FD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210C33-FF9A-41D7-9369-B08E648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79824-8338-4A02-8205-20D5FAB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AB8EE-ABCE-47DC-A31B-6595FA0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A4819-C42C-4D7D-BECD-928D158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CC4F5-C8C5-45CB-8C14-3B10B7F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C7824-DCD3-442C-98A7-326BAB41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B006C-6C48-4470-9DF2-911E2882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69F2E-541F-4F07-9961-FD0D822C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5D6446-40C2-41AD-AC72-953775B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F618-0430-40B2-990C-95CFDE55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3AD11-4AFA-43CE-BDCE-465AA59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9563D-844A-4927-BB9F-9F19B951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71912-1433-4B74-A2E4-50D37FE5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5F733-56C5-4DFC-80CB-50FF45C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D7540-2596-46C8-8EF6-403371B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F22C6-C460-4A45-8817-1441BC4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95C79-3985-4607-8685-51B13E3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5C4C2-71DA-40E0-AC87-9D98395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67DAF-C866-4A63-8567-E232816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09A4D-6FF6-412D-B384-8E1A4610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79D4-AD88-4C21-B7F8-99A9558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9BF19-D9D9-4335-8B0A-ECE3720E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D4F96-1555-4C50-A7F9-1EFDE24C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81A89C-F407-471D-BFF8-32D8E1C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52741E-692C-411A-936F-1D5147A1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6E104-56E1-46CE-BF70-D025129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CADB5-D33D-4C79-87A7-7934489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D6F04-B2B1-43D4-802E-C540ED2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70ABB-5E9C-4E27-B3B8-6EFF924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B5722-5C6C-4FD6-AB83-E75B448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7AB5D-D106-4B7C-AFE6-F742A02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FF24-0B0D-4B55-AAE2-5066C584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DB27D6-6208-4482-A168-15075D3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647FC-A3AF-4E99-A606-65ED34D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C6CCE-95E8-4E15-A0CD-7378BF7D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C309-EED0-4C70-A1E1-86BADDF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2976-B764-43D1-A77B-A460810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F899-CF73-4CE4-A483-75A7D47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4DC7-B37B-4272-9976-AC1B2B7E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4A0-F3E1-4C7E-9177-5BE2B3B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30C8-264E-475F-B7E7-43CE635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5C67-10DF-42DF-8664-4311DF2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1CC2-D038-49F2-8D58-73A458D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ACF1-4937-43B3-B1E8-671A014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4ADB-D09D-41E1-9A64-A04A1F55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97F9-ECA1-4A7A-AB81-5069E472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B87B-7AE0-4C82-BDE2-A0D557AC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25C0-9A71-4702-A836-7CF47555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8570-A4C7-4A33-B7FB-6120901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3E5E-0A94-4581-A4AF-1B203760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68E-7D1D-4195-BE51-F97B7C5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0A99-3ABC-4F31-BA8D-1B5487F2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D0BA-8F46-475F-857B-B146E2FF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ABEC-37D6-432C-8E93-1CB42093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0744-5FD3-41A5-B9FE-20CBEB7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75F7-35F1-44B4-8DCE-BAF879C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E32ED-EB18-4D0F-912C-9D221FB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9D87-D4AB-44E5-8787-71DCD97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E639-D609-420F-AFBB-07499D9A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0959-7349-430D-A102-55662C5F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26C6-837E-4C3B-93F0-F81796F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434-9C68-4D7E-95DA-06A44D5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CC1D-95C7-4983-9207-73D21DDF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7769-4EC4-4415-AC50-D0CD2C92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8FB7-DDD7-41FF-B737-C3B8455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5552-E150-4D76-8979-0564CF6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C8F2-37BB-4AE1-BEE1-3B74467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22FE-D3F6-4E51-9839-AD8237D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3D8B-6330-465C-8C35-60C0836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5A86-EB54-48AD-90C3-BB62E80F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5528-6C72-4A47-9228-AF16BA4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249B-D19C-4E18-926A-92C75C29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D7D-205B-48A2-8C80-FBF7903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E316-EDF9-43C1-8171-14F4E66E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5669-DF6B-480F-884E-1F138C6C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0B3C-E1F5-4A0F-B74A-334E78B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D42D-7DA1-4555-8F3D-9CB731FF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145E0-28ED-4B96-95AE-6AF04B0F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2EB8-4596-44A7-8A26-95CC6196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241C-3246-4BF4-874B-C0BAA53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775A3-E542-4382-AA43-17A5BB5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D094-6133-4228-BC60-9ED6B03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4079F-F61D-4FF2-9154-A31F1F9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6C4-E841-4D79-A86B-0C2A0A5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BCAA-9602-46E3-8E3F-64FF7D9E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AA55-5B72-42D7-9179-DE3679A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4E88-C259-4912-857E-B4855494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13D0B-5EFD-4099-9AF3-9B478F91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C296-032A-461B-8B39-8DA3F6C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CB71-235F-4977-ADEA-1ECAFE5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FD71D-BE80-4DCB-BB98-23A91DF8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CE82-943A-4A0E-B905-F48A373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5BC0-7B30-47B2-9ABF-4DECFCA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E5F64-ECC8-46F9-A993-EB65A60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05F-29EB-4A76-B346-BE0907C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8346-8AEF-4E43-B60C-C2E0294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FD3B-9D97-48C8-93B9-59044AC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DA660-E5D2-4F48-B35F-E6D25AC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9B47-72AA-4F51-A329-221EE905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062BC-9E52-47C0-A743-9F425F2E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8F0F-63EF-426D-8B65-3C6DDBD9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72361-2973-453C-AC19-A918F9F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7755-2737-41E8-AB76-D1DD305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1129-3B74-4F29-AFC2-B124A80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B7D68-1595-429B-A293-7670FBDE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6C7-A04C-4787-A780-76352D7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11002-76AC-48B6-9DF4-4EEC5EA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BF69-7079-49EB-8246-7E2908D1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B6E2-2572-4A97-9F8C-75F4A6C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37A0-B89A-4FB3-A984-0832DA3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FE9F-9571-43D0-A4D7-EAF9871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55BA0-D3D6-4616-8F9C-7599EB95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B182C-CCA2-43D6-8B92-0305E5AA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E9220-E662-4F8C-A6B6-179C31AA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641E-EE58-407A-9A60-45A7053A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C8D19-8775-48CE-ACB5-9C4113D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26A-5204-4FB6-A94B-19E2E2091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5298-C1A0-458B-9124-1DCF9F81B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7D6-DB35-4C09-AE61-B33B39033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96C5-52C6-4ECD-BCA8-88ADA40B2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2AE-D7E5-4172-BF94-48A190CD9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331F-CFE7-4F9A-8BAF-7CDB59A03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56B-3006-4FBD-BFDD-692DC35FC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E35-E253-433B-AAF1-5D30FA936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ECE-3EB0-4E88-B1D8-0DC1695E4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1AF-F39B-46C2-8CF6-D4F90328A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17E-3C3F-4BCB-9D5A-954879BB75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6C62-D760-48DC-90B8-241663A2F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FD7-6BF1-48D7-8770-D2BF030E8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58C-67D8-4FB4-A3FA-DE6DE3419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6EF-EA1C-41F6-A9FC-529F25C330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3FA-BC18-44A2-8DB3-C866F1505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03C-91F4-479F-ACDA-0B2E31AF3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E4F3-2034-4900-8861-244DCFDF5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D18-BA7B-4098-9C17-C10846EEF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2BFE-41DB-44E4-8984-6BBBD3144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313-B5FB-40AC-AEA7-8A6F61411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9049-1634-4170-B0A0-CBE9D6EE9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406D-250E-411C-A066-DB1B2FB304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4912-E788-4607-BEBA-A9AC6FD77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56C-64DF-4281-9279-900D8C615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8E35-DCFF-4316-B784-70CE0AD8F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AB0-40B7-45FE-A900-565F559C4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6D8-B87E-4B97-AA1A-97EC84CF8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741-4B2B-4C41-9B2A-4FF179E02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430-065D-4BE6-95F2-0C602B20C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7A38-362A-4913-BE00-8051E0675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A8F7-90B7-4626-9305-D7D896451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67E-5EC2-4516-8FA8-0CEC5EFA6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55FE-735C-497C-AEF9-B718E43E9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7B31-8BCB-470A-A737-A013FE42F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38D-7306-4C8E-A010-07325E761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192A-61DA-4D91-81E8-526C36E1B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D9D-E77C-45CF-9F6D-E5F408DD5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A878-07F2-4432-8AFE-D8DD29349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689D-E4BC-44C9-A904-17DD77188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7334280" cy="819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9246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69633" descr=""/>
          <p:cNvPicPr/>
          <p:nvPr/>
        </p:nvPicPr>
        <p:blipFill>
          <a:blip r:embed="rId1"/>
          <a:stretch/>
        </p:blipFill>
        <p:spPr>
          <a:xfrm>
            <a:off x="271440" y="1285920"/>
            <a:ext cx="8601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68609" descr=""/>
          <p:cNvPicPr/>
          <p:nvPr/>
        </p:nvPicPr>
        <p:blipFill>
          <a:blip r:embed="rId1"/>
          <a:stretch/>
        </p:blipFill>
        <p:spPr>
          <a:xfrm>
            <a:off x="547560" y="2209680"/>
            <a:ext cx="8048880" cy="24386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2303280" cy="503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3276720" y="2162160"/>
            <a:ext cx="2303280" cy="9367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468360" y="3156120"/>
            <a:ext cx="8351640" cy="5029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395280" y="3730680"/>
            <a:ext cx="8352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67585" descr=""/>
          <p:cNvPicPr/>
          <p:nvPr/>
        </p:nvPicPr>
        <p:blipFill>
          <a:blip r:embed="rId1"/>
          <a:stretch/>
        </p:blipFill>
        <p:spPr>
          <a:xfrm>
            <a:off x="257040" y="1166760"/>
            <a:ext cx="8629920" cy="4524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755640" y="3630600"/>
            <a:ext cx="2879640" cy="863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3995640" y="3587760"/>
            <a:ext cx="2880000" cy="8636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684360" y="4624560"/>
            <a:ext cx="374328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43080" y="885960"/>
            <a:ext cx="8458200" cy="5495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374840" y="5661000"/>
            <a:ext cx="1008000" cy="503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348000" y="60069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305160" y="543096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508720" y="5734080"/>
            <a:ext cx="100800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524720" y="599292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481880" y="5416560"/>
            <a:ext cx="719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738360" y="1766880"/>
            <a:ext cx="7667280" cy="3324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116000" y="432108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103560" y="463860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348000" y="406224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5508720" y="4307040"/>
            <a:ext cx="1079280" cy="502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7480440" y="4653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7610400" y="4076640"/>
            <a:ext cx="3016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66760" y="1333440"/>
            <a:ext cx="8610480" cy="4191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835280" y="2997360"/>
            <a:ext cx="633240" cy="502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995640" y="306864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7610400" y="2781360"/>
            <a:ext cx="633600" cy="100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292720" y="393372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1835280" y="47973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3924360" y="47973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7308720" y="4581360"/>
            <a:ext cx="863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504720" y="1643040"/>
            <a:ext cx="8134560" cy="3571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635120" y="265104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3564000" y="2637000"/>
            <a:ext cx="936720" cy="502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121520" y="242100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3924360" y="357336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2800440" y="4221000"/>
            <a:ext cx="936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6324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334360" cy="6248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863720" y="1052640"/>
            <a:ext cx="1987560" cy="1008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127920" y="995400"/>
            <a:ext cx="1987560" cy="10080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2066760" y="2205000"/>
            <a:ext cx="1987560" cy="1008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300720" y="220500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2268360" y="331308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084720" y="3313080"/>
            <a:ext cx="2374920" cy="100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435640" y="49989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6891480" y="4998960"/>
            <a:ext cx="93636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348000" y="545940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3276720" y="5978520"/>
            <a:ext cx="107928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5300" descr=""/>
          <p:cNvPicPr/>
          <p:nvPr/>
        </p:nvPicPr>
        <p:blipFill>
          <a:blip r:embed="rId1"/>
          <a:stretch/>
        </p:blipFill>
        <p:spPr>
          <a:xfrm>
            <a:off x="295200" y="1352520"/>
            <a:ext cx="8553600" cy="4152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1461960" y="2795760"/>
            <a:ext cx="2678400" cy="502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5494320" y="2781360"/>
            <a:ext cx="303840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1547640" y="3774960"/>
            <a:ext cx="3038760" cy="503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5580000" y="3774960"/>
            <a:ext cx="3038400" cy="503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1461960" y="4767120"/>
            <a:ext cx="3038760" cy="503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5565600" y="4753080"/>
            <a:ext cx="30387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4276" descr=""/>
          <p:cNvPicPr/>
          <p:nvPr/>
        </p:nvPicPr>
        <p:blipFill>
          <a:blip r:embed="rId1"/>
          <a:stretch/>
        </p:blipFill>
        <p:spPr>
          <a:xfrm>
            <a:off x="771480" y="2352600"/>
            <a:ext cx="7601040" cy="21528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4932360" y="2463840"/>
            <a:ext cx="1008000" cy="460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1008360" cy="4604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3564000" y="3400560"/>
            <a:ext cx="18000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2231" descr=""/>
          <p:cNvPicPr/>
          <p:nvPr/>
        </p:nvPicPr>
        <p:blipFill>
          <a:blip r:embed="rId1"/>
          <a:stretch/>
        </p:blipFill>
        <p:spPr>
          <a:xfrm>
            <a:off x="433440" y="1604880"/>
            <a:ext cx="8277120" cy="364824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2232" descr=""/>
          <p:cNvPicPr/>
          <p:nvPr/>
        </p:nvPicPr>
        <p:blipFill>
          <a:blip r:embed="rId2"/>
          <a:stretch/>
        </p:blipFill>
        <p:spPr>
          <a:xfrm>
            <a:off x="1095480" y="2262240"/>
            <a:ext cx="75819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4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